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48D-8218-41A9-A20A-F88023A6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2E8-AAF7-4438-BB41-7B9378EA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FA7-AE80-4172-B507-D8F78509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A4C-5E87-42EE-BC55-E98036A4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D8FB-B66A-4BC5-B6C1-85B813B2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68D2-3013-47E2-80C9-F001A9C8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7092-2811-4957-B0AA-A1C80900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D7EF-BF3E-4D50-A3A4-1715C04B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F235-0B71-47DB-937A-4095FA7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A516-685B-4228-8DAD-151FCA73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D53C-0241-4922-AD39-E8D34377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048-CFCD-4030-ADD1-29A85A7C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31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5592-5BC0-4AF1-877A-DEE555C2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7549-F496-43E0-A969-49318375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DC27-0FC7-4D0B-AC7A-C3F28B15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31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E43-7762-4629-9392-2E3B013C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2140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348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2140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348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5531-B1CC-436F-8AEB-F49AE058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7CE-F11B-430F-92A8-02A5A15D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37D-EBC8-4F11-A314-B798C0C3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614-F838-4A35-92DC-96D02E24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616-A4B9-4B83-856F-1897DC44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19A-FFCA-4FEE-879F-3B23911C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B18-73D3-4AF2-AAD9-885D5140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B49-AD4F-4BFF-AF5B-D4E42017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002B-3EE5-46E8-8B5A-86A136F46C75}" type="slidenum">
              <a:rPr b="0" lang="es-E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5400-F1AB-4B68-8AA2-F1B69BC397E3}" type="slidenum">
              <a:rPr b="0" lang="es-E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WINDOWS\Escritorio\Vista528\ViSta.exe" TargetMode="External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523880" y="4038480"/>
          <a:ext cx="172404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17240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cc"/>
                </a:solidFill>
                <a:latin typeface="Arial Narrow"/>
              </a:rPr>
              <a:t>Lección Magistral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86200" y="4343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dro M. Valero M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cultat de Psicolo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iversitat de Valè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2209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Datos Faltantes Multivari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486400" y="2057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rrado por P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4419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paquetes estadísticos no las 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3429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número de casos es inestable en cada p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523880" y="1676520"/>
            <a:ext cx="1752840" cy="4419360"/>
            <a:chOff x="1523880" y="1676520"/>
            <a:chExt cx="1752840" cy="4419360"/>
          </a:xfrm>
        </p:grpSpPr>
        <p:sp>
          <p:nvSpPr>
            <p:cNvPr id="169" name=""/>
            <p:cNvSpPr/>
            <p:nvPr/>
          </p:nvSpPr>
          <p:spPr>
            <a:xfrm>
              <a:off x="1523880" y="1676520"/>
              <a:ext cx="1752840" cy="441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259092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3880" y="373392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880" y="525780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76720" y="1676520"/>
            <a:ext cx="1752480" cy="4419360"/>
            <a:chOff x="3276720" y="1676520"/>
            <a:chExt cx="1752480" cy="4419360"/>
          </a:xfrm>
        </p:grpSpPr>
        <p:sp>
          <p:nvSpPr>
            <p:cNvPr id="174" name=""/>
            <p:cNvSpPr/>
            <p:nvPr/>
          </p:nvSpPr>
          <p:spPr>
            <a:xfrm>
              <a:off x="3276720" y="1676520"/>
              <a:ext cx="1752480" cy="441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720" y="2590920"/>
              <a:ext cx="17524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6720" y="4572000"/>
              <a:ext cx="175248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6320" y="3068640"/>
          <a:ext cx="5410080" cy="302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068640"/>
                    <a:ext cx="541008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52280" y="3068640"/>
          <a:ext cx="5334120" cy="298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68640"/>
                    <a:ext cx="53341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2603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41440" y="1801800"/>
            <a:ext cx="7999200" cy="3448080"/>
            <a:chOff x="541440" y="1801800"/>
            <a:chExt cx="7999200" cy="3448080"/>
          </a:xfrm>
        </p:grpSpPr>
        <p:sp>
          <p:nvSpPr>
            <p:cNvPr id="186" name=""/>
            <p:cNvSpPr/>
            <p:nvPr/>
          </p:nvSpPr>
          <p:spPr>
            <a:xfrm>
              <a:off x="4724280" y="2603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875200" y="3328920"/>
                  <a:ext cx="2665440" cy="19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3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2979720" y="2146320"/>
              <a:ext cx="4952880" cy="914400"/>
            </a:xfrm>
            <a:custGeom>
              <a:avLst/>
              <a:gdLst>
                <a:gd name="textAreaLeft" fmla="*/ 866520 w 4952880"/>
                <a:gd name="textAreaRight" fmla="*/ 3591000 w 49528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41440" y="1801800"/>
              <a:ext cx="838080" cy="804240"/>
              <a:chOff x="541440" y="1801800"/>
              <a:chExt cx="838080" cy="804240"/>
            </a:xfrm>
          </p:grpSpPr>
          <p:sp>
            <p:nvSpPr>
              <p:cNvPr id="190" name=""/>
              <p:cNvSpPr/>
              <p:nvPr/>
            </p:nvSpPr>
            <p:spPr>
              <a:xfrm>
                <a:off x="541440" y="180180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4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1840" y="214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320" y="3068640"/>
          <a:ext cx="5410080" cy="302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068640"/>
                    <a:ext cx="541008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875200" y="332892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41440" y="1801800"/>
            <a:ext cx="838080" cy="804240"/>
            <a:chOff x="541440" y="1801800"/>
            <a:chExt cx="838080" cy="804240"/>
          </a:xfrm>
        </p:grpSpPr>
        <p:sp>
          <p:nvSpPr>
            <p:cNvPr id="198" name=""/>
            <p:cNvSpPr/>
            <p:nvPr/>
          </p:nvSpPr>
          <p:spPr>
            <a:xfrm>
              <a:off x="541440" y="1801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84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2603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875200" y="332892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541440" y="1801800"/>
            <a:ext cx="838080" cy="804240"/>
            <a:chOff x="541440" y="1801800"/>
            <a:chExt cx="838080" cy="804240"/>
          </a:xfrm>
        </p:grpSpPr>
        <p:sp>
          <p:nvSpPr>
            <p:cNvPr id="209" name=""/>
            <p:cNvSpPr/>
            <p:nvPr/>
          </p:nvSpPr>
          <p:spPr>
            <a:xfrm>
              <a:off x="541440" y="1801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84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541440" y="1801800"/>
            <a:ext cx="7999200" cy="3448080"/>
            <a:chOff x="541440" y="1801800"/>
            <a:chExt cx="7999200" cy="3448080"/>
          </a:xfrm>
        </p:grpSpPr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875200" y="3328920"/>
                  <a:ext cx="2665440" cy="19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3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>
              <a:off x="2979720" y="2146320"/>
              <a:ext cx="4952880" cy="914400"/>
            </a:xfrm>
            <a:custGeom>
              <a:avLst/>
              <a:gdLst>
                <a:gd name="textAreaLeft" fmla="*/ 866520 w 4952880"/>
                <a:gd name="textAreaRight" fmla="*/ 3591000 w 49528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41440" y="1801800"/>
              <a:ext cx="838080" cy="804240"/>
              <a:chOff x="541440" y="1801800"/>
              <a:chExt cx="838080" cy="804240"/>
            </a:xfrm>
          </p:grpSpPr>
          <p:sp>
            <p:nvSpPr>
              <p:cNvPr id="221" name=""/>
              <p:cNvSpPr/>
              <p:nvPr/>
            </p:nvSpPr>
            <p:spPr>
              <a:xfrm>
                <a:off x="541440" y="180180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4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1840" y="214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2603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875200" y="332892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31" name=""/>
          <p:cNvGrpSpPr/>
          <p:nvPr/>
        </p:nvGrpSpPr>
        <p:grpSpPr>
          <a:xfrm>
            <a:off x="541440" y="1801800"/>
            <a:ext cx="838080" cy="804240"/>
            <a:chOff x="541440" y="1801800"/>
            <a:chExt cx="838080" cy="804240"/>
          </a:xfrm>
        </p:grpSpPr>
        <p:sp>
          <p:nvSpPr>
            <p:cNvPr id="232" name=""/>
            <p:cNvSpPr/>
            <p:nvPr/>
          </p:nvSpPr>
          <p:spPr>
            <a:xfrm>
              <a:off x="541440" y="1801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184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724280" y="2603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875200" y="332892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541440" y="1801800"/>
            <a:ext cx="838080" cy="804240"/>
            <a:chOff x="541440" y="1801800"/>
            <a:chExt cx="838080" cy="804240"/>
          </a:xfrm>
        </p:grpSpPr>
        <p:sp>
          <p:nvSpPr>
            <p:cNvPr id="241" name=""/>
            <p:cNvSpPr/>
            <p:nvPr/>
          </p:nvSpPr>
          <p:spPr>
            <a:xfrm>
              <a:off x="541440" y="1801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184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2603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875200" y="332892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541440" y="1801800"/>
            <a:ext cx="838080" cy="804240"/>
            <a:chOff x="541440" y="1801800"/>
            <a:chExt cx="838080" cy="804240"/>
          </a:xfrm>
        </p:grpSpPr>
        <p:sp>
          <p:nvSpPr>
            <p:cNvPr id="252" name=""/>
            <p:cNvSpPr/>
            <p:nvPr/>
          </p:nvSpPr>
          <p:spPr>
            <a:xfrm>
              <a:off x="541440" y="1801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184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2603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541440" y="1801800"/>
            <a:ext cx="7999200" cy="3448080"/>
            <a:chOff x="541440" y="1801800"/>
            <a:chExt cx="7999200" cy="3448080"/>
          </a:xfrm>
        </p:grpSpPr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5875200" y="3328920"/>
                  <a:ext cx="2665440" cy="19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3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2979720" y="2146320"/>
              <a:ext cx="4952880" cy="914400"/>
            </a:xfrm>
            <a:custGeom>
              <a:avLst/>
              <a:gdLst>
                <a:gd name="textAreaLeft" fmla="*/ 866520 w 4952880"/>
                <a:gd name="textAreaRight" fmla="*/ 3591000 w 49528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541440" y="1801800"/>
              <a:ext cx="838080" cy="804240"/>
              <a:chOff x="541440" y="1801800"/>
              <a:chExt cx="838080" cy="804240"/>
            </a:xfrm>
          </p:grpSpPr>
          <p:sp>
            <p:nvSpPr>
              <p:cNvPr id="265" name=""/>
              <p:cNvSpPr/>
              <p:nvPr/>
            </p:nvSpPr>
            <p:spPr>
              <a:xfrm>
                <a:off x="541440" y="180180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4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1840" y="214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2603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175248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iterio de de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71600" y="3505320"/>
            <a:ext cx="838080" cy="804240"/>
            <a:chOff x="1371600" y="3505320"/>
            <a:chExt cx="838080" cy="804240"/>
          </a:xfrm>
        </p:grpSpPr>
        <p:sp>
          <p:nvSpPr>
            <p:cNvPr id="273" name=""/>
            <p:cNvSpPr/>
            <p:nvPr/>
          </p:nvSpPr>
          <p:spPr>
            <a:xfrm>
              <a:off x="1371600" y="35053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00920" y="384984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87240" y="4307040"/>
                <a:ext cx="2665440" cy="19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4876920" y="3505320"/>
            <a:ext cx="838080" cy="804240"/>
            <a:chOff x="4876920" y="3505320"/>
            <a:chExt cx="838080" cy="804240"/>
          </a:xfrm>
        </p:grpSpPr>
        <p:sp>
          <p:nvSpPr>
            <p:cNvPr id="277" name=""/>
            <p:cNvSpPr/>
            <p:nvPr/>
          </p:nvSpPr>
          <p:spPr>
            <a:xfrm>
              <a:off x="4876920" y="35053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6600" y="38498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63960" y="434664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2971800" y="476424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49165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&lt; 0.000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Ubicació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a lección corresponde al Bloque de contenidos sobre Datos Faltantes en su parte Avanz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e contenidos Teóricos y además Actividades que podrían realizarse en las Prácticas de la Asign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5486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3962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co Agre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3352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triz Compl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495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ones de las Puntu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91320" y="5410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triz Covarianzas bien defi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5486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281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ventar dat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33526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puntuaciones están sobreajus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4844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poni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54100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puestos acerca de mecanis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: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esg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038480" y="2057400"/>
          <a:ext cx="5029200" cy="39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057400"/>
                    <a:ext cx="502920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533520" y="2057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r Faltante 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dependiente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y de X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tos Faltantes Completamente al A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F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2819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a Ca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57800" y="6056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du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2553840" y="3770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: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esg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886280" y="2286000"/>
          <a:ext cx="410544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2286000"/>
                    <a:ext cx="41054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762120" y="31240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5000" y="6056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du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3315960" y="3770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440" y="2114640"/>
            <a:ext cx="32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r Faltante depende de X pero no de Y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tos Faltantes al Azar (F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: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esg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743360" y="2286000"/>
          <a:ext cx="409572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3360" y="2286000"/>
                    <a:ext cx="409572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533520" y="4267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canismo No Igno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124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i FA ni F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4876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ingún Mét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5943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du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3239640" y="3846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xploración de datos faltant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286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ómo podemos evaluar unos datos que no tenem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720" y="3657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ndo los diversos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809880" y="4495680"/>
          <a:ext cx="11430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495680"/>
                    <a:ext cx="11430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Conclusion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2286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ploración de datos faltantes con ViSta perm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3048120"/>
            <a:ext cx="6858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probar el efecto de los valores  faltantes sobre nuestros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luar el sesgo que introduc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a exploración puede realizarse de modo interactivo por el alumno, explorando las interconexiones entre grá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uando un sujeto no responde a una pregunta nos encontramos ante un caso con un valor faltan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lgunas variables que producirán valores faltantes a menudo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81080" y="426888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alar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29400" y="449424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t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5680" y="56386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ducta íntim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90920" y="4802040"/>
            <a:ext cx="2638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ductas delictiva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spcBef>
                <a:spcPts val="95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Los valores faltantes producen dos tipos de proble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430920" indent="-165600">
              <a:spcBef>
                <a:spcPts val="950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Problemas de Cálcul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0920" indent="-165600">
              <a:spcBef>
                <a:spcPts val="950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Problemas de Sesg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: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1220760" y="1828800"/>
          <a:ext cx="8085240" cy="456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20760" y="1828800"/>
                    <a:ext cx="808524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69080" y="2057400"/>
                <a:ext cx="825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6477120" y="2819520"/>
            <a:ext cx="533160" cy="520560"/>
            <a:chOff x="6477120" y="2819520"/>
            <a:chExt cx="533160" cy="520560"/>
          </a:xfrm>
        </p:grpSpPr>
        <p:sp>
          <p:nvSpPr>
            <p:cNvPr id="104" name=""/>
            <p:cNvSpPr/>
            <p:nvPr/>
          </p:nvSpPr>
          <p:spPr>
            <a:xfrm>
              <a:off x="6477120" y="28195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3080" y="2895840"/>
              <a:ext cx="228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162920" y="32004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638680" y="3809880"/>
            <a:ext cx="2540160" cy="1168560"/>
            <a:chOff x="5638680" y="3809880"/>
            <a:chExt cx="2540160" cy="116856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638680" y="3886200"/>
                  <a:ext cx="113040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7162920" y="3809880"/>
                  <a:ext cx="101592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7086600" y="4495680"/>
                  <a:ext cx="100188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715000" y="4495680"/>
                  <a:ext cx="9777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: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562720" y="3048120"/>
                <a:ext cx="2665440" cy="19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 flipV="1">
            <a:off x="5562720" y="1980360"/>
            <a:ext cx="1676160" cy="685800"/>
          </a:xfrm>
          <a:custGeom>
            <a:avLst/>
            <a:gdLst>
              <a:gd name="textAreaLeft" fmla="*/ 558720 w 1676160"/>
              <a:gd name="textAreaRight" fmla="*/ 1435680 w 167616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019920" y="3200400"/>
                <a:ext cx="1734840" cy="18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7</m:t>
                          </m:r>
                        </m:e>
                        <m:e>
                          <m:r>
                            <m:t xml:space="preserve">9</m:t>
                          </m:r>
                        </m:e>
                        <m:e>
                          <m:r>
                            <m:t xml:space="preserve">9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</m:e>
                        <m:e>
                          <m:r>
                            <m:t xml:space="preserve">7</m:t>
                          </m:r>
                        </m:e>
                        <m:e>
                          <m:r>
                            <m:t xml:space="preserve">6</m:t>
                          </m:r>
                        </m:e>
                        <m:e>
                          <m:r>
                            <m:t xml:space="preserve">7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</m:e>
                        <m:e>
                          <m:r>
                            <m:t xml:space="preserve">6</m:t>
                          </m:r>
                        </m:e>
                        <m:e>
                          <m:r>
                            <m:t xml:space="preserve">9</m:t>
                          </m:r>
                        </m:e>
                        <m:e>
                          <m:r>
                            <m:t xml:space="preserve">8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</m:e>
                        <m:e>
                          <m:r>
                            <m:t xml:space="preserve">7</m:t>
                          </m:r>
                        </m:e>
                        <m:e>
                          <m:r>
                            <m:t xml:space="preserve">8</m:t>
                          </m:r>
                        </m:e>
                        <m:e>
                          <m:r>
                            <m:t xml:space="preserve">9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486400" y="2057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rrado Caso por Ca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590920"/>
            <a:ext cx="43434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809880"/>
            <a:ext cx="4343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572000"/>
            <a:ext cx="4343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4120"/>
            <a:ext cx="43434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3581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triz Compl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038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ep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486400" y="2057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rrado Caso por Ca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581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e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ferentes casos según mod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876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752480"/>
            <a:ext cx="19051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752480"/>
            <a:ext cx="2743200" cy="4343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2590920"/>
            <a:ext cx="19051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3733920"/>
            <a:ext cx="19051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334120"/>
            <a:ext cx="19051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4572000"/>
            <a:ext cx="27432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86400" y="2057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rrado por P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581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nos Agre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038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495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provechable a ve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523880" y="1676520"/>
            <a:ext cx="1752840" cy="4419360"/>
            <a:chOff x="1523880" y="1676520"/>
            <a:chExt cx="1752840" cy="4419360"/>
          </a:xfrm>
        </p:grpSpPr>
        <p:sp>
          <p:nvSpPr>
            <p:cNvPr id="153" name=""/>
            <p:cNvSpPr/>
            <p:nvPr/>
          </p:nvSpPr>
          <p:spPr>
            <a:xfrm>
              <a:off x="1523880" y="1676520"/>
              <a:ext cx="1752840" cy="441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3880" y="259092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373392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525780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76720" y="1676520"/>
            <a:ext cx="1752480" cy="4419360"/>
            <a:chOff x="3276720" y="1676520"/>
            <a:chExt cx="1752480" cy="4419360"/>
          </a:xfrm>
        </p:grpSpPr>
        <p:sp>
          <p:nvSpPr>
            <p:cNvPr id="158" name=""/>
            <p:cNvSpPr/>
            <p:nvPr/>
          </p:nvSpPr>
          <p:spPr>
            <a:xfrm>
              <a:off x="3276720" y="1676520"/>
              <a:ext cx="1752480" cy="441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76720" y="2590920"/>
              <a:ext cx="17524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720" y="4572000"/>
              <a:ext cx="175248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0:43:52Z</dcterms:created>
  <dc:creator>win95</dc:creator>
  <dc:description/>
  <dc:language>en-US</dc:language>
  <cp:lastModifiedBy>win95</cp:lastModifiedBy>
  <dcterms:modified xsi:type="dcterms:W3CDTF">1999-01-21T23:06:04Z</dcterms:modified>
  <cp:revision>78</cp:revision>
  <dc:subject/>
  <dc:title>Curriculum Docente</dc:title>
</cp:coreProperties>
</file>